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8659-361A-479C-8EE8-B7D6A203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9E63-B5F9-478A-8F11-6E80FD86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0117-FA41-4A85-A5FD-FB8BAAB9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B6BD-17AD-432E-9F08-E94C73FE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80AC-8BE4-4302-AD80-0142A1FE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BAB-6B14-4CFF-AE6D-D70D7131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76A3-6AD9-4E57-A6D5-9F44B7DC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3AE3-787E-4C29-AB7D-972F6022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140D-839F-4E8F-8D89-E5C8A579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A368-1284-4654-93A9-9F26C8D4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221B-7D86-48B0-B03B-BD3AFDC4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2628-BE2D-4CF4-95BA-A8F2CF5E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7B3D-3B4C-45DC-ABAB-977C0BBD1B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theliberalblogger.com/forum/attachments/f2/16276d1202685123-33-weird-unusual-shaped-houses-around-world-kettle-house-galveston-texas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860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2686320" cy="2019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492360" y="234936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57150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38400" y="981000"/>
            <a:ext cx="66672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8713800" cy="52275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Franklin Gothic Demi"/>
              </a:rPr>
              <a:t>This is an American Police car.</a:t>
            </a:r>
            <a:br>
              <a:rPr sz="3200"/>
            </a:br>
            <a:r>
              <a:rPr b="0" lang="en-NZ" sz="3200" spc="-1" strike="noStrike">
                <a:solidFill>
                  <a:srgbClr val="000000"/>
                </a:solidFill>
                <a:latin typeface="Franklin Gothic Demi"/>
              </a:rPr>
              <a:t>They have just got stuck in cement…</a:t>
            </a:r>
            <a:br>
              <a:rPr sz="3200"/>
            </a:br>
            <a:r>
              <a:rPr b="0" lang="en-NZ" sz="3200" spc="-1" strike="noStrike">
                <a:solidFill>
                  <a:srgbClr val="000000"/>
                </a:solidFill>
                <a:latin typeface="Franklin Gothic Demi"/>
              </a:rPr>
              <a:t>Imagine that you are the driver of the patrol car. What are you thinking righ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14120" y="5516640"/>
            <a:ext cx="962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Franklin Gothic Demi"/>
              </a:rPr>
              <a:t>Write a paragraph about what happened lea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Franklin Gothic Demi"/>
              </a:rPr>
              <a:t>up to getting stuck in the cem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-928440" y="4754520"/>
            <a:ext cx="1076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ff"/>
                </a:solidFill>
                <a:latin typeface="Qlassik Medium"/>
              </a:rPr>
              <a:t>Imagine that you are this gu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ff"/>
                </a:solidFill>
                <a:latin typeface="Qlassik Medium"/>
              </a:rPr>
              <a:t>How do you feel at this moment? Write a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ff"/>
                </a:solidFill>
                <a:latin typeface="Qlassik Medium"/>
              </a:rPr>
              <a:t>about your base jum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692360" y="1628280"/>
            <a:ext cx="1295280" cy="3095640"/>
          </a:xfrm>
          <a:prstGeom prst="line">
            <a:avLst/>
          </a:prstGeom>
          <a:ln w="3492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268520" cy="6408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716360" y="150840"/>
            <a:ext cx="425628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Romeo"/>
              </a:rPr>
              <a:t>What is going on here?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Romeo"/>
              </a:rPr>
              <a:t>Write a half-page description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Romeo"/>
              </a:rPr>
              <a:t>from either the point-of-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Romeo"/>
              </a:rPr>
              <a:t>of one of the young men 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Romeo"/>
              </a:rPr>
              <a:t>the photo or the per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Romeo"/>
              </a:rPr>
              <a:t>taking the photo.</a:t>
            </a:r>
            <a:r>
              <a:rPr b="0" lang="en-NZ" sz="3200" spc="-1" strike="noStrike">
                <a:solidFill>
                  <a:srgbClr val="ffffff"/>
                </a:solidFill>
                <a:latin typeface="Romeo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1957320"/>
            <a:ext cx="6553440" cy="4900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26920" y="0"/>
            <a:ext cx="76676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271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9280" y="33336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Rockwell"/>
              </a:rPr>
              <a:t>Look at the photograph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Rockwell"/>
              </a:rPr>
              <a:t>What do you think is going to happen to this young man nex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Rockwell"/>
              </a:rPr>
              <a:t>Write a diary entry for the man who is about to ‘hit the deck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79280" y="2133720"/>
            <a:ext cx="5976720" cy="4535280"/>
            <a:chOff x="179280" y="2133720"/>
            <a:chExt cx="5976720" cy="4535280"/>
          </a:xfrm>
        </p:grpSpPr>
        <p:sp>
          <p:nvSpPr>
            <p:cNvPr id="49" name=""/>
            <p:cNvSpPr/>
            <p:nvPr/>
          </p:nvSpPr>
          <p:spPr>
            <a:xfrm>
              <a:off x="179280" y="2133720"/>
              <a:ext cx="5976720" cy="4535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" descr="33-weird-unusual-shaped-houses-around-world-kettle-house-galveston-texas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252360" y="2205000"/>
              <a:ext cx="5832360" cy="437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-229320" y="166680"/>
            <a:ext cx="9627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Eras Medium ITC"/>
              </a:rPr>
              <a:t>Look at the picture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Eras Medium ITC"/>
              </a:rPr>
              <a:t>It is a house shaped like a kett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Eras Medium ITC"/>
              </a:rPr>
              <a:t>Write a story about the people who live in this h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Eras Medium ITC"/>
              </a:rPr>
              <a:t>Your story should be about half a page l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71560" y="423720"/>
            <a:ext cx="740088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7632720" cy="5027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63480" y="130320"/>
            <a:ext cx="808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Century Gothic"/>
              </a:rPr>
              <a:t>Describe what is happening in this photograph. It is the Taiwanese Parlia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Century Gothic"/>
              </a:rPr>
              <a:t>Then – write down whether you think this could happen in the New Zealand debating chamb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entury Gothic"/>
              </a:rPr>
              <a:t>This is a fight in the Taiwanese Parliament (they have a lot of fights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entury Gothic"/>
              </a:rPr>
              <a:t>Imagine that you are this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entury Gothic"/>
              </a:rPr>
              <a:t>Write how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entury Gothic"/>
              </a:rPr>
              <a:t>are feeling 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entury Gothic"/>
              </a:rPr>
              <a:t>that mom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19640" y="2565360"/>
            <a:ext cx="5362560" cy="3714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08720" y="2133720"/>
            <a:ext cx="215640" cy="79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41:21Z</dcterms:created>
  <dc:creator>deborahmi</dc:creator>
  <dc:description/>
  <dc:language>en-US</dc:language>
  <cp:lastModifiedBy>susannewi</cp:lastModifiedBy>
  <dcterms:modified xsi:type="dcterms:W3CDTF">2008-03-10T02:06:21Z</dcterms:modified>
  <cp:revision>12</cp:revision>
  <dc:subject/>
  <dc:title>Slide 1</dc:title>
</cp:coreProperties>
</file>